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617-72FC-43AD-BE57-EFBC9986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05F-F14A-4C01-82BF-3791A2C8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867-549D-4C05-87A0-5F47C370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6F4-73DF-47EA-9121-1AF49C40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6F5-C1E9-46F3-814C-17F8C4AA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7C0-2BBB-49D1-B4E8-A927CB64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C4F-53D9-46D1-9230-6B435507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13A-F4B0-4983-8F03-201272BD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C4E-E321-4E45-ABB1-1C86C2CB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E13-5459-4856-9F3E-E9F84C6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096-CF66-451C-8DA6-159BD76B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9F0-16E0-4C14-90F1-41DDF9AA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F3E4-0D73-4EE5-AEC7-850476957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esarean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/history – named for Julius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is delivered through an incision made in the abdomen/ut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 for C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phalopelvic dis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vix not fully dia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sual baby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al di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 blocking uterus or falling out before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72000" y="2747880"/>
            <a:ext cx="2914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ech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t or buttocks facing down a.k.a. coming out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angerou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– a procedure the doctor does to turn the baby while in the womb so they are head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gar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– 1952 Dr. Virginia Apgar created this test to evaluate newborn response within the first 5 minutes after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590920"/>
            <a:ext cx="352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areas  – hear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piratory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scle 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lex ir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590920"/>
            <a:ext cx="464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d  0-2 (2 being high sc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 Score = Not common b/c of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valuations are performed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amp;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4495680"/>
            <a:ext cx="1316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ature Bi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– delivery of a fetus before it is ready to be b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the lungs are not fully developed so the infant cannot breathe on its own (eye problems often occ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24 weeks = non-viable (cannot survive on its 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The expulsion of a dead embryo or fetus from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causes: genetic defect, mother’s illness or drug use.  Often occurs in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mester, sometimes before mother knows she is pregna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-20% of all pregnancies end in miscarri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bi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rth of a dead, full-term fetus (usually caused by physical injury to the fet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nancy No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th 2 pm - 3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8:36:37Z</dcterms:created>
  <dc:creator>PA Department of Education</dc:creator>
  <dc:description/>
  <dc:language>en-US</dc:language>
  <cp:lastModifiedBy>PA Department of Education</cp:lastModifiedBy>
  <dcterms:modified xsi:type="dcterms:W3CDTF">2008-06-20T18:37:16Z</dcterms:modified>
  <cp:revision>1</cp:revision>
  <dc:subject/>
  <dc:title>Caesarean Section</dc:title>
</cp:coreProperties>
</file>